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CDED-90D5-4AC3-81FC-5D1E79E1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0177-E3A0-45C1-A46A-9F8DFEB3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C3CE-821C-47EA-9704-71498437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2E42-807E-452D-9C92-75BD2CB74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C50C-D596-43E7-AA0D-C933E831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03CA-BC70-4B3E-A1C6-332257B9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1E55-81CD-473E-964E-5515F522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EC6E-B5BC-4992-ACA1-473D4CC6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EA26-C92B-4EF6-9BBB-54ADE50B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C93B-12FF-48DD-A059-2D078A64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34EA-AA8E-446C-94F1-2F22B209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354C-658F-4A5B-9A89-CE4DFDE8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FC53-A21B-4339-931A-89FD4FE7B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0" y="0"/>
            <a:ext cx="9372600" cy="78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ategories of Water Pollution Conta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Pathogen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acteria and microorganisms that can cause human health problem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uld come from: inadequately treated sewage discharges, poorly-managed livestock ope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hemical and other Contaminan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rganic water pollutant examples: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deterg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disinfection  by-products (cleane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food processing wastes (fats and greas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insecticides and herbici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petroleum (oil) by-products (gasoline, diesel fuel, jet fuels, motor oi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tree and bush debris from logging ope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chemical compounds from personal hygiene and cosmetic produ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organic water pollutant exampl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cidity caused by industrial discharges (ex: SO2 from power plant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mmonia from food processing was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fertilizers containing nutrients (phosphorous)-agric., commercial/resi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heavy metals from cars, and acid mine drain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silt (sediment) in runoff from construction, logging, land clea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Thermal Pollutio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 rise or fall in temperature of a natural body of water caused by a human influence.  Examples: power plant coolants and industrial manufacturers (raise water temp), and release of very cold water from the base of reservoirs into warmer riv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1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8:30:28Z</dcterms:created>
  <dc:creator> </dc:creator>
  <dc:description/>
  <dc:language>en-US</dc:language>
  <cp:lastModifiedBy> </cp:lastModifiedBy>
  <dcterms:modified xsi:type="dcterms:W3CDTF">2010-01-14T18:32:26Z</dcterms:modified>
  <cp:revision>1</cp:revision>
  <dc:subject/>
  <dc:title>Slide 1</dc:title>
</cp:coreProperties>
</file>